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CC5-0F4A-4C04-81B1-17AA533C8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296-FBB4-4662-B580-D6E1DD5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6F2-61CE-4AA9-9E2C-F6EB9D60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699C-D8E7-48FA-878B-872531FC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8B40E-A276-478F-A613-8C7FDB86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8604-B611-4E45-8921-4BB7C9F5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8EF0-B22A-4D93-BC03-8A181EE1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4AE7-A047-45B0-8786-AA051DF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57609-C40A-4B4D-A140-4D06713A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D900-256B-4F46-AC55-AABFBF0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8921-B471-4B63-B93D-FB170390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5EA9-C0C9-426A-BF3C-7B76BD5D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9ADB-9DDC-4AAD-8C9F-0DF91516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B75B-0EC2-4383-B1DB-718F2F9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2A0A-AB97-418D-9745-67C1EA44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D80B-9DE7-42A9-8039-1613D440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75B8-1A2B-4C26-BD1F-AB9C10F8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9664-5063-4B5C-91C1-5C955013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F6D-83C6-497E-AC7B-671E129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E2B-2FA5-44F8-9A11-582C8289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2AB-4A28-4792-9883-EB7665A3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2FA-6D04-4D3E-AA90-5CEC03A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8F2-F385-438F-98F7-B26D5ABF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B156-37DE-4450-801B-94A5957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CF73-34B1-4D17-9E2B-E64B4DD17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575-8060-4C33-A15F-8FB8AAB8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know this stuff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quizzed on this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score at least 80% or you will not be allowed in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afety is dependent on thes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Quiz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) What brand of chewing gum is allowed in the la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Double-M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St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Winterfre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Gum is not allowed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) What should you do if you spill a chemic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Tell the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Grab some paper towels and clean th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Dilute the spill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All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) When should you wear gog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) Everytime you are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) Only when chemicals are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) Only when burning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) Never, who needs eye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) True or False: Flip Flops are appropriate shoes for l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) True or False: It is okay to have a bottle of water in the lab, but only if you keep it away from your work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10160" y="1744560"/>
            <a:ext cx="4228920" cy="4738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43800" y="579132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43640" y="2209680"/>
            <a:ext cx="2735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2917800"/>
            <a:ext cx="365760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87800" y="2557440"/>
            <a:ext cx="2960640" cy="3767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876920" y="586728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) Name the Equipmen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10160" y="3392640"/>
            <a:ext cx="422892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ral R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enter the lab without a teacher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touch anything without instructions to do 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your work area 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enter the storage area…this area is for teachers ONL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re General R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eat or drink anything in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perform unauthorized experi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orse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ALL verbal and written instructions from the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othing Rul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wear goggles during any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wear contact lenses in the lab without permission from the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loose clothing, jewelry, hair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wear open toed shoes in th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ons should be worn during all experiments unless told other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ccid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any accident to the teacher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splashes in your eye, immediately go to the eye wash station. Your lab partner should instruct your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touch a broken mercury therm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spill anything, let the teacher clean it up; do not clean it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ndling Chemical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hemicals should be considered dangero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mell, touch, or eat any lab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return unused chemicals to the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dispense flammable liquids near open fl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ids should be given extra c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dd acid to water for di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Lab Equip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89160" y="1676520"/>
            <a:ext cx="2108160" cy="2361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911920" y="1676520"/>
            <a:ext cx="1623960" cy="236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2362320" cy="223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5977080" y="4419720"/>
            <a:ext cx="149544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Lab Equip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14440" y="1676520"/>
            <a:ext cx="1855800" cy="236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10160" y="2135160"/>
            <a:ext cx="4228920" cy="1444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00040" y="4191120"/>
            <a:ext cx="3684600" cy="2361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533920" y="4552920"/>
            <a:ext cx="23814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sic Lab Equip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47640" y="2128680"/>
            <a:ext cx="1590840" cy="145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41880" y="1676520"/>
            <a:ext cx="136548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857240" y="4776840"/>
            <a:ext cx="971640" cy="1190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5734080" y="4824360"/>
            <a:ext cx="1981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00:51:55Z</dcterms:created>
  <dc:creator>Adam's Homepage</dc:creator>
  <dc:description/>
  <dc:language>en-US</dc:language>
  <cp:lastModifiedBy>Adam's Homepage</cp:lastModifiedBy>
  <dcterms:modified xsi:type="dcterms:W3CDTF">2008-07-14T01:52:05Z</dcterms:modified>
  <cp:revision>3</cp:revision>
  <dc:subject/>
  <dc:title>Laboratory Safety</dc:title>
</cp:coreProperties>
</file>